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395-D986-43D3-AE42-D8600142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55A-C2DD-4742-AE3D-0E0FFBE6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5D3-0837-4809-9EB9-3F77873F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14E-5BE7-4E92-A025-D98B041D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EDC-E060-4470-88F2-173C6CC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6AC-6DC5-40EE-AB08-BAD64200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532-0691-4D64-9682-86E5482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4C2-5B30-4ADA-A302-1754D22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A56-68BD-4D4E-A317-0301E8C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49B-B0E1-4CD4-AD65-BAECF1F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D6D-F079-4C5F-AC0D-52065E8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C5B-AACA-4568-A68D-7314E29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501-6F35-4D11-876D-E22E7225A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1622520"/>
            <a:ext cx="350496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rah and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ere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u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ing to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circ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ive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know you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, wild ti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Zhom. Welcome to the jungle.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igital Image. &lt;</a:t>
            </a:r>
            <a:r>
              <a:rPr b="0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neezhom/3434639670/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monautirussi. The small enchanted circus at night. Digital picture. &lt;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cosmonautirussi/2475112519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italART2. Big Tiger Cub!. Digital picture. &lt;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digitalart/1906662004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514600" y="5335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4:29Z</dcterms:created>
  <dc:creator>Fac - Montgomery,Bruce</dc:creator>
  <dc:description/>
  <dc:language>en-US</dc:language>
  <cp:lastModifiedBy>cyndi.vander_ven</cp:lastModifiedBy>
  <dcterms:modified xsi:type="dcterms:W3CDTF">2009-04-17T13:10:56Z</dcterms:modified>
  <cp:revision>4</cp:revision>
  <dc:subject/>
  <dc:title>Tigers</dc:title>
</cp:coreProperties>
</file>